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4E6-B759-4D2D-BF2D-5BEDA508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FEC-A9D1-49C6-B8C8-3374BDF5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E69-D2BC-41A4-B2E3-4411E6AF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B67-DAE1-4457-802A-5CF5A778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44E-8588-452A-A567-27A4CBA2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E4B-F434-403E-B82D-14A440AF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A73-4B27-4FC9-83B7-795C8C09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B66-757C-47AE-B06D-49C1624B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33D-2DB0-4CEF-A360-19843F7A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316-248A-4F77-9CB1-B93459CE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77A-116E-4690-93C9-A0456024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C94-AC58-47CB-AABF-5B1AFFD7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B057-CC5B-49EC-BB9E-40642F4298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8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6264000" cy="2206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6532560" cy="3811680"/>
          </a:xfrm>
          <a:prstGeom prst="rect">
            <a:avLst/>
          </a:prstGeom>
          <a:ln w="0">
            <a:noFill/>
          </a:ln>
        </p:spPr>
      </p:pic>
      <p:sp>
        <p:nvSpPr>
          <p:cNvPr id="77" name="Овал 2"/>
          <p:cNvSpPr/>
          <p:nvPr/>
        </p:nvSpPr>
        <p:spPr>
          <a:xfrm>
            <a:off x="2987640" y="3716280"/>
            <a:ext cx="15130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6"/>
          <p:cNvSpPr/>
          <p:nvPr/>
        </p:nvSpPr>
        <p:spPr>
          <a:xfrm>
            <a:off x="3211560" y="5597640"/>
            <a:ext cx="1152360" cy="349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16960" cy="4968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7600680" y="6165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71720" y="853920"/>
            <a:ext cx="7000560" cy="5148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7816320" y="6093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22400" y="1147680"/>
            <a:ext cx="7099200" cy="4562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42092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900000" y="1773360"/>
                <a:ext cx="7728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2924280"/>
                <a:ext cx="2087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8360" y="114480"/>
            <a:ext cx="5975280" cy="136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828720" y="1641600"/>
            <a:ext cx="4751280" cy="4952880"/>
          </a:xfrm>
          <a:prstGeom prst="rect">
            <a:avLst/>
          </a:prstGeom>
          <a:ln w="0">
            <a:noFill/>
          </a:ln>
        </p:spPr>
      </p:pic>
      <p:sp>
        <p:nvSpPr>
          <p:cNvPr id="53" name="Овал 7"/>
          <p:cNvSpPr/>
          <p:nvPr/>
        </p:nvSpPr>
        <p:spPr>
          <a:xfrm>
            <a:off x="2124000" y="5732640"/>
            <a:ext cx="21600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788976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9"/>
          <p:cNvSpPr/>
          <p:nvPr/>
        </p:nvSpPr>
        <p:spPr>
          <a:xfrm>
            <a:off x="4284720" y="652464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68360" y="204840"/>
            <a:ext cx="6818400" cy="2149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755640" y="2354400"/>
            <a:ext cx="690408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Выгнутая вниз стрелка 1"/>
          <p:cNvSpPr/>
          <p:nvPr/>
        </p:nvSpPr>
        <p:spPr>
          <a:xfrm>
            <a:off x="4932360" y="4581360"/>
            <a:ext cx="503280" cy="142920"/>
          </a:xfrm>
          <a:custGeom>
            <a:avLst/>
            <a:gdLst>
              <a:gd name="textAreaLeft" fmla="*/ 112320 w 503280"/>
              <a:gd name="textAreaRight" fmla="*/ 37296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0" hR="21600" stAng="10800000" swAng="-5400000"/>
                <a:lnTo>
                  <a:pt x="11184" y="21600"/>
                </a:lnTo>
                <a:arcTo wR="9650" hR="21600" stAng="5400000" swAng="-3598487"/>
                <a:lnTo>
                  <a:pt x="21294" y="5400"/>
                </a:lnTo>
                <a:lnTo>
                  <a:pt x="20067" y="0"/>
                </a:lnTo>
                <a:lnTo>
                  <a:pt x="18228" y="5400"/>
                </a:lnTo>
                <a:lnTo>
                  <a:pt x="18994" y="5400"/>
                </a:lnTo>
                <a:arcTo wR="9650" hR="21600" stAng="1801513" swAng="3476079"/>
                <a:lnTo>
                  <a:pt x="10417" y="21532"/>
                </a:lnTo>
                <a:arcTo wR="9650" hR="21600" stAng="5522408" swAng="5277592"/>
                <a:close/>
              </a:path>
              <a:path fill="darkenLess" w="21600" h="21600">
                <a:moveTo>
                  <a:pt x="0" y="0"/>
                </a:moveTo>
                <a:arcTo wR="9650" hR="21600" stAng="10800000" swAng="-5400000"/>
                <a:lnTo>
                  <a:pt x="11184" y="21600"/>
                </a:lnTo>
                <a:arcTo wR="9650" hR="21600" stAng="5400000" swAng="122408"/>
                <a:lnTo>
                  <a:pt x="10417" y="21532"/>
                </a:lnTo>
                <a:arcTo wR="9650" hR="21600" stAng="5522408" swAng="5277592"/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781740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442880" y="74520"/>
            <a:ext cx="6258240" cy="6708960"/>
          </a:xfrm>
          <a:prstGeom prst="rect">
            <a:avLst/>
          </a:prstGeom>
          <a:ln w="0">
            <a:noFill/>
          </a:ln>
        </p:spPr>
      </p:pic>
      <p:sp>
        <p:nvSpPr>
          <p:cNvPr id="61" name="Овал 4"/>
          <p:cNvSpPr/>
          <p:nvPr/>
        </p:nvSpPr>
        <p:spPr>
          <a:xfrm>
            <a:off x="4211640" y="5661000"/>
            <a:ext cx="128520" cy="7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211640" y="6021360"/>
            <a:ext cx="152280" cy="9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510080" y="6031080"/>
            <a:ext cx="152280" cy="91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781740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11280" y="15840"/>
            <a:ext cx="6953040" cy="35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22440" y="3284640"/>
            <a:ext cx="5452920" cy="17953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7385040" y="630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бал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"/>
          <p:cNvSpPr/>
          <p:nvPr/>
        </p:nvSpPr>
        <p:spPr>
          <a:xfrm>
            <a:off x="1476360" y="3894120"/>
            <a:ext cx="45720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082520" y="671400"/>
            <a:ext cx="6977160" cy="5513400"/>
          </a:xfrm>
          <a:prstGeom prst="rect">
            <a:avLst/>
          </a:prstGeom>
          <a:ln w="0">
            <a:noFill/>
          </a:ln>
        </p:spPr>
      </p:pic>
      <p:sp>
        <p:nvSpPr>
          <p:cNvPr id="70" name="Овал 1"/>
          <p:cNvSpPr/>
          <p:nvPr/>
        </p:nvSpPr>
        <p:spPr>
          <a:xfrm>
            <a:off x="5219640" y="4365720"/>
            <a:ext cx="4572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8462160" y="6308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47880" y="206280"/>
            <a:ext cx="6976800" cy="6391440"/>
          </a:xfrm>
          <a:prstGeom prst="rect">
            <a:avLst/>
          </a:prstGeom>
          <a:ln w="0">
            <a:noFill/>
          </a:ln>
        </p:spPr>
      </p:pic>
      <p:sp>
        <p:nvSpPr>
          <p:cNvPr id="73" name="Овал 1"/>
          <p:cNvSpPr/>
          <p:nvPr/>
        </p:nvSpPr>
        <p:spPr>
          <a:xfrm>
            <a:off x="1187280" y="3402000"/>
            <a:ext cx="2160720" cy="33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7673040" y="6381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2T11:34:59Z</dcterms:created>
  <dc:creator>User</dc:creator>
  <dc:description/>
  <dc:language>en-US</dc:language>
  <cp:lastModifiedBy>User</cp:lastModifiedBy>
  <dcterms:modified xsi:type="dcterms:W3CDTF">2021-04-25T11:03:40Z</dcterms:modified>
  <cp:revision>16</cp:revision>
  <dc:subject/>
  <dc:title>Презентация PowerPoint</dc:title>
</cp:coreProperties>
</file>